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058E8-F1E9-4870-9FB2-6F44570FCB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6AAB8-743A-4EC4-9DA7-ED5DC4066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74E2F-1240-4D6B-9A91-91FD35DE00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43E48F-7C9E-407E-8807-185913BEA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B37B-0C7D-4EAF-A511-6EB460BA9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84563-EAF8-451A-9EF7-E0254AE1D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2BCFA-CBA4-4506-95FE-D45B454FD7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4E622-A0AB-4807-B14C-786841113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1C464-CA5E-4CBA-8421-93A0B54EE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FCA8-73B1-4403-B32D-4B3B3F520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8D08CC-7FF9-4A42-92BB-50707828E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094F5D-B6DB-4FBC-B2F6-1B22780D91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485AA-90E4-421E-B568-38939009A2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rious Incident of the Dog in the Nighttim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4</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Christopher find out his mom is still al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4</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le looking for his book, comes across old letters written from his mo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5</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Christopher do instead of hugging peo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5</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esses his hand against someone elses in a f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6</a:t>
            </a: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3 items found in Christophers pocket when he is taken to the police s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6</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uzzle piece, swiss army knife, piece of string, 3 rat pellets, some money, red paper clip, ke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7</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ne of the 2 reason Christopher finds people confus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7</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y a lot with few words; they talk in metapho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8</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ubject is Christopher excited about tak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8</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evel M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in Characters</a:t>
            </a:r>
            <a:endParaRPr b="0" lang="en-US" sz="4400" spc="-1" strike="noStrike">
              <a:solidFill>
                <a:srgbClr val="000000"/>
              </a:solidFill>
              <a:latin typeface="Times New Roman"/>
            </a:endParaRPr>
          </a:p>
        </p:txBody>
      </p:sp>
      <p:sp>
        <p:nvSpPr>
          <p:cNvPr id="44" name="PlaceHolder 2"/>
          <p:cNvSpPr>
            <a:spLocks noGrp="1"/>
          </p:cNvSpPr>
          <p:nvPr>
            <p:ph/>
          </p:nvPr>
        </p:nvSpPr>
        <p:spPr>
          <a:xfrm>
            <a:off x="609480" y="837720"/>
            <a:ext cx="7772400" cy="5257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hristopher John Francis Boone</a:t>
            </a:r>
            <a:r>
              <a:rPr b="0" lang="en-US" sz="2400" spc="-1" strike="noStrike">
                <a:solidFill>
                  <a:srgbClr val="000000"/>
                </a:solidFill>
                <a:latin typeface="Times New Roman"/>
              </a:rPr>
              <a:t> – fifteen year old boy with asperger's syndrome and lives in a small town in Englan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Ed Boone</a:t>
            </a:r>
            <a:r>
              <a:rPr b="0" lang="en-US" sz="2400" spc="-1" strike="noStrike">
                <a:solidFill>
                  <a:srgbClr val="000000"/>
                </a:solidFill>
                <a:latin typeface="Times New Roman"/>
              </a:rPr>
              <a:t> – Christopher’s dad ,raises Christopher on his own.  Lies to Christopher about his mother.  He was also the murderer of Mr. Wellington.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Judy Boone</a:t>
            </a:r>
            <a:r>
              <a:rPr b="0" lang="en-US" sz="2400" spc="-1" strike="noStrike">
                <a:solidFill>
                  <a:srgbClr val="000000"/>
                </a:solidFill>
                <a:latin typeface="Times New Roman"/>
              </a:rPr>
              <a:t> - Christopher’s mom,Christopher thought that she was dead, but at the end of the story he left to find her.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r. Shears</a:t>
            </a:r>
            <a:r>
              <a:rPr b="0" lang="en-US" sz="2400" spc="-1" strike="noStrike">
                <a:solidFill>
                  <a:srgbClr val="000000"/>
                </a:solidFill>
                <a:latin typeface="Times New Roman"/>
              </a:rPr>
              <a:t>-  Had an affair with Christopher’s Mother.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rs. Alexander</a:t>
            </a:r>
            <a:r>
              <a:rPr b="0" lang="en-US" sz="2400" spc="-1" strike="noStrike">
                <a:solidFill>
                  <a:srgbClr val="000000"/>
                </a:solidFill>
                <a:latin typeface="Times New Roman"/>
              </a:rPr>
              <a:t>-  She told Christopher the truth about his mother.</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Mrs. Shears</a:t>
            </a:r>
            <a:r>
              <a:rPr b="0" lang="en-US" sz="2400" spc="-1" strike="noStrike">
                <a:solidFill>
                  <a:srgbClr val="000000"/>
                </a:solidFill>
                <a:latin typeface="Times New Roman"/>
              </a:rPr>
              <a:t>-  Has her dog killed, had affair with Chris’ dad.  </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Wellington</a:t>
            </a:r>
            <a:r>
              <a:rPr b="0" lang="en-US" sz="2400" spc="-1" strike="noStrike">
                <a:solidFill>
                  <a:srgbClr val="000000"/>
                </a:solidFill>
                <a:latin typeface="Times New Roman"/>
              </a:rPr>
              <a:t> – Mrs. Shears’ dog, a poodle, was killed at the beginning of the nov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9</a:t>
            </a: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does Wellington get killed wi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9</a:t>
            </a:r>
            <a:endParaRPr b="0" lang="en-US" sz="4400" spc="-1" strike="noStrike">
              <a:solidFill>
                <a:srgbClr val="000000"/>
              </a:solidFill>
              <a:latin typeface="Times New Roman"/>
            </a:endParaRPr>
          </a:p>
        </p:txBody>
      </p:sp>
      <p:sp>
        <p:nvSpPr>
          <p:cNvPr id="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rden F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0</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one of the things Christopher does when he gets angry or overwhelm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0</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reams, hits people, curls up into a bal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1</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re does Christopher hide on the train to Lond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1</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ggage Compart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2</a:t>
            </a: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es Christopher almost die at the subway st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2</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by escapes, Christopher almost gets hit by a subway ca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3</a:t>
            </a: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oes Christopher like math so muc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3</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re is always a definite answ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ot Overview</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1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ristopher John Francis Boone knows all the countries of the world and their capitals and every prime number up to 7,057.  He relates well to animals but has no understanding of human emotions.  He cannot stand to be touched.  And he detests the color yellow.  This improbable story of Christopher’s quest to investigate the suspicious death of a neighborhood dog makes for one of the most captivating, unusual, and widely heralded novels in 100 years.  </a:t>
            </a:r>
            <a:r>
              <a:rPr b="0" lang="en-US" sz="600" spc="-1" strike="noStrike">
                <a:solidFill>
                  <a:srgbClr val="000000"/>
                </a:solidFill>
                <a:latin typeface="Times New Roman"/>
              </a:rPr>
              <a:t>Quote by mark haddon</a:t>
            </a:r>
            <a:endParaRPr b="0" lang="en-US" sz="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4</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letters, what word does Christopher’s mom often use to describe his da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4</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i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5</a:t>
            </a: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did Christopher hit the police offic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5</a:t>
            </a:r>
            <a:endParaRPr b="0" lang="en-US" sz="44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cause the officer grabbed his ar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9" name="borat_narrowweb__300x495,0" descr=""/>
          <p:cNvPicPr/>
          <p:nvPr/>
        </p:nvPicPr>
        <p:blipFill>
          <a:blip r:embed="rId1"/>
          <a:stretch/>
        </p:blipFill>
        <p:spPr>
          <a:xfrm>
            <a:off x="3352680" y="1447920"/>
            <a:ext cx="2494080" cy="4114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1</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colors does Christopher like/dislik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1</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s Red, Dislikes Brown/Yellow</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2</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secret does Ms. Alexander tell Christoph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2</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 mom had an affair with Mr. Shea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what kind of animal Christopher has and its nam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swer 3</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by; r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8:56:15Z</dcterms:created>
  <dc:creator>DU</dc:creator>
  <dc:description/>
  <dc:language>en-US</dc:language>
  <cp:lastModifiedBy>DU</cp:lastModifiedBy>
  <dcterms:modified xsi:type="dcterms:W3CDTF">2006-10-10T19:13:52Z</dcterms:modified>
  <cp:revision>2</cp:revision>
  <dc:subject/>
  <dc:title>Curious Incident</dc:title>
</cp:coreProperties>
</file>